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dt" idx="20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 type="ftr" idx="21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 type="sldNum" idx="22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5A23051-78EC-4D42-A997-50F7064C20DA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339840" y="800280"/>
            <a:ext cx="4935600" cy="370044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74668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Sociālā uzņēmējdarbība ļauj risināt sociālās problēmas ar biznesa instrumentiem - uzņēmums ražo preces vai sniedz pakalpojumus ar mērķi risināt sociālo problēmu, nevis ar mērķi gūt finansiālu labumu uzņēmuma īpašnieki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Veidojot sociālo uzņēmumu, pirmais ar ko būtu jāsāk ir izzināt mūsu sabiedrības problēmas un vajadzības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Izejot no tā, definē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- sava uzņēmuma sociālo mērķi (tam ir jābūt pozitīvai sociālai ietekmei un jābūt definētam statūtos vai citā līdzvērtīgā dokumentā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- biznesa ideju, kurai tici un kura ilgtermiņā būs dzīvotspējīga (tai jānes peļņu, lai varētu konkurēt ar citiem uzņēmumiem tirgū un   investēt sociālajos uzņēmuma mērķos)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Slide Number Placehold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669107A-B8B5-4725-BE69-4E66F1B63DC9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662E-D78C-40A7-ADA1-99AFFE273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8000-256E-44F1-B0C6-71D7C971B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23996A-CA42-4DF7-A8FF-169293298781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EC791D-0B1A-4598-89B1-55BE6B389B24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140979-9892-494E-BB51-A12AFAAE27D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1FAD24-E795-42DE-87F3-D365F1F7A49C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3CE676-C3BB-46E3-9CCE-A5D54B0474F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82459B-4835-4836-8099-BFC4299C73DE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4DE3D7-0947-42AF-840F-B3B6EB7B5F13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8DDCEE-DBAD-407A-9387-3168D85C70C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C1F875-B58B-45EE-ADE5-859FB7F9509A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4DBB-49E6-4CD7-BA0C-8C4FE2C0A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4675-6EB4-4D01-B012-821AD51A7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A715DEF-0D2E-4FC0-8A8F-049FC05A0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E1E41E2-5FFA-40F2-B91C-77D7D06F2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51175DA-A25D-4AF3-ABE9-9F8A5C790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BD851D7-2A43-4FEB-8E2A-DEA542F57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D5A01F4-3BFD-4678-B6D5-4B2D1BC9D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92E8E10-AE49-4EE5-B42E-F5471EFE0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297BD18-66CF-4F30-8BDF-D450D7613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151502D-9B60-4DA2-BF6B-876754140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6BDD87E-0A10-454F-9626-AC0607C05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EA93A84-EEC7-4A81-9EEB-064CD2E0E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C43D5D2-6DC5-4FB9-8B92-AD89FA3E1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A4D223E-5B80-456B-859A-F8CA36AE8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21A46CE-EEDE-40C7-B08E-66164C692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65C9A49-884D-47AA-BB63-2A6E81DC8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4C56FBC-0B94-4F4B-A109-37BA19AC8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9E6E29B-94DB-492A-82C8-4480420E5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8380CDB-819D-4681-BDB1-9F56B628A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1528532-2C2F-4990-A0F9-175F230CC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A88EFD8-C8A4-4657-94B2-BBE5367D3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AFDCE20-3614-4605-9E42-659B0E225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1966374-F216-428F-BA67-1F2BE433F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4E0EEDE-BC1C-4C1C-A732-1BF223E58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D5F2D78-E188-4EAE-AEE9-D93C1870E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F53D8BF-AF99-4281-BAC8-17A650010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7800382-DE5D-4D70-8AE0-E642EF0B2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61BA322-848B-4B1D-8810-5885A3C43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4EFE280-8B0D-4B33-9E54-E3D70F05C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9C5FE5C-A7F7-4F0F-8664-857AA5B71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8A992F2-54CA-48B9-AA84-B8E3D0A78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C980AAA-C956-41AE-8A05-A636EC02F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E873F68-FB03-419A-B759-0AB14143B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47EC73E-B713-49A9-BFE5-E7991ACB0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F4A228D-C395-4601-B8FA-C19BDEB36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8485AF0-CB85-4E99-801D-121192139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D13AED0-4D67-491E-9AE6-DB1484F10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60B9417-E01D-4FF6-AF05-F05BEECD0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B9BD-31F1-499B-9A8C-327EE3D81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054397-0AC4-4405-BC1D-1B5F2C909C0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ABEC76-C2DF-4ADD-B45B-C9CD6C8C889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31F440-E4DD-408D-9826-2D168B15D4F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EE2245-488D-420F-8FA4-548D7F1AA33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A54156-1270-48EA-9F0E-41015B61D1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B1EF-6939-46EC-85BA-C05BE76A5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8D5A1C-8BEC-468C-9636-47DE2213F52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C2804D-954D-4D67-A21A-DBEBB71F339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28AFF1-2B03-44F1-8AC6-29F41600583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2C1544-6D26-4A19-AC4F-1C8C243098D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15EA2B-F512-4E34-B7F8-B277BF92982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EAE9BD-DFBA-49A4-90A6-70EED486632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27F19B-1562-49EE-80BD-0FFE47A42E5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B06DE1-78EF-4392-AC36-78FC43CA082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B541B6-5630-4500-9927-88A1F906950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B92066-ADB2-4A5E-BB27-2891242A2A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9A4E-262B-46A6-ABA2-3C6071A3E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930B37-E167-41B8-BB8D-33E51B914F4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652B08-D269-4495-9474-F44017681A6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0CF049-CFDF-4DD8-9AA9-07395862FF8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F5C02C-4E09-4465-8DA4-78382A49B13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C407C5-C18E-4272-B41E-2A395F528AE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FE60CE-EA05-40E2-85B0-EF953F283AA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138EFC-0FAE-4A56-8D7C-B341FCED55F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473B38-DDB4-4945-98B6-F1FCD0B3CE3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38B5DE-0290-449D-85E5-6A374D3642F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D6D03-FACD-42EB-8B8E-95C95CF54B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3D9A-89A7-4496-BE4C-F8A88EB1C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04241-E67D-466C-BFDA-2F7FFC8FEEA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A7848-F64B-4C1E-A1AC-258FABD07079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15083-3739-4708-9E27-3DB1BA29C73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1CD18-53C8-4995-A040-F6765D0005C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83CE7-2C08-483A-AEAF-14DD28BF27D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EFFF1-5D8C-45A8-BA04-B5278BB8194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EC35D-D336-4C1C-B4E0-C7CE417D8A8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D5146-33BA-4A6D-BB64-5E2A0F576F4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E8856-8784-47BF-B4BF-8145903F53E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04A05-0ADA-470D-9199-BAAFA68C41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06CB-E920-484B-8A6A-96CEA5518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0FD4D-B2A7-42DB-8F1F-79571C1A03AC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7D0040-76FA-4417-A2A8-E48C3F4DC5C8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49636C-65C8-4AA5-8B27-65513C91274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BD6788-1665-4726-846B-15C7482C5AF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C6B8B6-C6B5-43C1-9968-BB96C2DF383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68EF38-5D6D-44C9-8DDD-0CCC6F2EE8C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564D83-B28B-4DB6-92CD-F1D0043AD31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593EE9-AE65-4F70-8355-E969E355919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A89382-FDF5-4252-A399-25A55169719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30BCC8-C137-496F-AB22-34DF9919C1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0948-6A89-47C6-9979-7D30F0AA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0533E1-FD29-4A5C-B890-2874B369B0B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008B91-48D7-429C-B3F4-924423FB7D9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A6F9DB-0EE5-4D5F-99B8-5F38BA5D3F34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F383C0-7108-45B2-BAFB-97B421A3639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C4B419-6F1C-474F-A51C-93B64BAB655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90E0E8-CD79-4D2B-BAF3-1638D8F0E17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C1E4B7-EAD3-4CEB-8F46-0BB9EE595B0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F4060E-4E27-4501-B469-E3A74D688218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F1122A-8BF0-4A0F-AD82-3114B2A9165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328D20-BD5C-48C0-8B4D-8A9A4D35DF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2981-B227-4068-8485-4BAD4A2A2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0A8910-F0AB-4147-9E3B-B3EB88E01D1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7EBECC-20DA-4B26-981E-EA7CCA64052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6DCB8A-DC61-4753-BB5E-3B03E2A157F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DE6B97-E5FC-412D-9B88-748B59859E0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4E1B7F-E812-4AEF-9021-2EF291BF38A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36026-49C4-4767-A149-B6A17CD56C3B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BA0C6-F6B6-4A66-A4EF-87841AF85ECE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4B198-8D39-4320-8243-5CF57EA966F3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10D0B-3208-4F7C-9888-CBF884E20CA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CAFE8-7369-480C-8516-F06F514932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72E5-998F-4B4F-B73D-E38BCCDC2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97FE8-B60E-4692-9FAB-5938BC75E061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46514-1203-45CF-B375-3C9C10DA1631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9D67E-3005-40B5-9467-BB6A78B90BB5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66327-29D2-481C-9256-3DD27D58C4B3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ABB14-6F88-40AA-AF88-08EF0F8489CC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983C4-AB64-4217-887F-A578C2778EC5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3107B-37FA-41D1-9DAC-212D4C51F368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512A89-D96C-4EDF-8AE3-27A7945EE20C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36A7A0-2013-4CC7-B3FD-0F863BA77DDC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EDA97D-6B58-4DE5-9A01-C2CD29574D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34FFA6F-6B3A-4676-A16E-FC90FE47794F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EFBAC9E-3579-4BF8-BA00-4294AE485C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7" descr=""/>
          <p:cNvPicPr/>
          <p:nvPr/>
        </p:nvPicPr>
        <p:blipFill>
          <a:blip r:embed="rId2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6" descr=""/>
          <p:cNvPicPr/>
          <p:nvPr/>
        </p:nvPicPr>
        <p:blipFill>
          <a:blip r:embed="rId3"/>
          <a:stretch/>
        </p:blipFill>
        <p:spPr>
          <a:xfrm>
            <a:off x="2682720" y="0"/>
            <a:ext cx="3778560" cy="416556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DFCE3F7-EBEB-43E1-9FFD-1E0A99C339D0}" type="datetime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25E9059-65B5-4792-8E69-787EB9EE0A1E}" type="slidenum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0584CBB-4C61-4062-88EB-DFD687FAF2AC}" type="datetime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2E3E54A-8892-4127-913A-14498F8E3B06}" type="slidenum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ABE43A3-6D0F-4238-8168-BCCFFE7F1F01}" type="datetime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FFAE83E-A392-4131-80BB-2D90A94CAD56}" type="slidenum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2682720" y="0"/>
            <a:ext cx="3778560" cy="4165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43" name="Title 1"/>
          <p:cNvSpPr/>
          <p:nvPr/>
        </p:nvSpPr>
        <p:spPr>
          <a:xfrm>
            <a:off x="685800" y="4724280"/>
            <a:ext cx="777240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68B2611-C15A-4241-B42C-AD7BA08CAF1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3344175-76E6-4B8C-B8D9-92C852AF517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D2D6D9E-3C6E-4989-B351-3668D0F65633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36085B0-BCFF-4CB2-B63F-A26F51084AB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sldNum" idx="8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0FF9BE3-242E-4F31-966D-F7F7BE16CB6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sldNum" idx="9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B4D5887-97B4-4C7C-A398-E3720D1F478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sldNum" idx="10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28DF8E5-59CE-4D17-AC08-68CBCA6724D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866880" y="2813040"/>
            <a:ext cx="7772400" cy="18748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900" spc="-1" strike="noStrike">
                <a:solidFill>
                  <a:srgbClr val="404040"/>
                </a:solidFill>
                <a:latin typeface="Verdana"/>
                <a:ea typeface="Verdana"/>
              </a:rPr>
              <a:t>Eiropas Sociālā fonda projekta</a:t>
            </a:r>
            <a:br>
              <a:rPr sz="1900"/>
            </a:br>
            <a:r>
              <a:rPr b="1" lang="lv-LV" sz="1900" spc="-1" strike="noStrike">
                <a:solidFill>
                  <a:srgbClr val="404040"/>
                </a:solidFill>
                <a:latin typeface="Verdana"/>
                <a:ea typeface="Verdana"/>
              </a:rPr>
              <a:t>«Atbalsts sociālajai uzņēmējdarbībai»</a:t>
            </a:r>
            <a:r>
              <a:rPr b="1" lang="lv-LV" sz="2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br>
              <a:rPr sz="2600"/>
            </a:br>
            <a:r>
              <a:rPr b="1" lang="lv-LV" sz="1100" spc="-1" strike="noStrike">
                <a:solidFill>
                  <a:srgbClr val="404040"/>
                </a:solidFill>
                <a:latin typeface="Verdana"/>
                <a:ea typeface="Verdana"/>
              </a:rPr>
              <a:t>vienošanās Nr. 9.1.1.3/15/I/001 </a:t>
            </a:r>
            <a:br>
              <a:rPr sz="700"/>
            </a:br>
            <a:br>
              <a:rPr sz="1900"/>
            </a:br>
            <a:br>
              <a:rPr sz="1600"/>
            </a:br>
            <a:br>
              <a:rPr sz="2000"/>
            </a:br>
            <a:br>
              <a:rPr sz="2200"/>
            </a:br>
            <a:br>
              <a:rPr sz="1900"/>
            </a:br>
            <a:br>
              <a:rPr sz="1900"/>
            </a:br>
            <a:br>
              <a:rPr sz="1700"/>
            </a:br>
            <a:br>
              <a:rPr sz="1700"/>
            </a:br>
            <a:br>
              <a:rPr sz="13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998640" y="587988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4" name="Picture 4" descr=""/>
          <p:cNvPicPr/>
          <p:nvPr/>
        </p:nvPicPr>
        <p:blipFill>
          <a:blip r:embed="rId1"/>
          <a:stretch/>
        </p:blipFill>
        <p:spPr>
          <a:xfrm>
            <a:off x="2128680" y="4994280"/>
            <a:ext cx="524844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30040" y="1116000"/>
            <a:ext cx="681804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404040"/>
                </a:solidFill>
                <a:latin typeface="Verdana"/>
                <a:ea typeface="Verdana"/>
              </a:rPr>
              <a:t>Informācija par projektu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0" y="1866600"/>
            <a:ext cx="911376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Projekts tiks īstenots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:</a:t>
            </a: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Eiropas Sociālā fonda darbības programmas „Izaugsme un nodarbinātība” 9.1.1. specifiskā atbalsta mērķa „Palielināt nelabvēlīgākā situācijā esošu bezdarbnieku iekļaušanos darba tirgū” 9.1.1.3.pasākuma «Atbalsts sociālajai uzņēmējdarbībai»  ietvaro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50000"/>
              </a:lnSpc>
              <a:spcBef>
                <a:spcPts val="425"/>
              </a:spcBef>
              <a:buClr>
                <a:srgbClr val="40404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Projekta īstenotājs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:</a:t>
            </a: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Labklājības ministrija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50000"/>
              </a:lnSpc>
              <a:spcBef>
                <a:spcPts val="425"/>
              </a:spcBef>
              <a:buClr>
                <a:srgbClr val="40404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Projekta partneris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:</a:t>
            </a: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0" lang="pt-BR" sz="1700" spc="-1" strike="noStrike">
                <a:solidFill>
                  <a:srgbClr val="404040"/>
                </a:solidFill>
                <a:latin typeface="Verdana"/>
                <a:ea typeface="Verdana"/>
              </a:rPr>
              <a:t>AS "Attīstības finanšu institūcija Altum" 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25"/>
              </a:spcBef>
              <a:buClr>
                <a:srgbClr val="40404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Plānotās izmaksas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:</a:t>
            </a:r>
            <a:r>
              <a:rPr b="0" lang="lv-LV" sz="1700" spc="-1" strike="noStrike">
                <a:solidFill>
                  <a:srgbClr val="404040"/>
                </a:solidFill>
                <a:latin typeface="Times New Roman"/>
                <a:ea typeface="Verdana"/>
              </a:rPr>
              <a:t> 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19 920 206</a:t>
            </a:r>
            <a:r>
              <a:rPr b="0" i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 euro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50000"/>
              </a:lnSpc>
              <a:spcBef>
                <a:spcPts val="425"/>
              </a:spcBef>
              <a:buClr>
                <a:srgbClr val="40404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Projekta īstenošanas laiks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:</a:t>
            </a: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2016.gada 4.janvāris - 2022.gada 31.decembris.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50000"/>
              </a:lnSpc>
              <a:spcBef>
                <a:spcPts val="425"/>
              </a:spcBef>
              <a:buClr>
                <a:srgbClr val="40404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907FA76-867D-456D-8D11-FE536529936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8" name="Picture 6" descr=""/>
          <p:cNvPicPr/>
          <p:nvPr/>
        </p:nvPicPr>
        <p:blipFill>
          <a:blip r:embed="rId1"/>
          <a:stretch/>
        </p:blipFill>
        <p:spPr>
          <a:xfrm>
            <a:off x="6969240" y="-68400"/>
            <a:ext cx="1701720" cy="17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8CE5C43-AACF-4507-93B2-3A576349BAC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744200" y="780840"/>
            <a:ext cx="5992920" cy="10839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404040"/>
                </a:solidFill>
                <a:latin typeface="Verdana"/>
                <a:ea typeface="Verdana"/>
              </a:rPr>
              <a:t>Kas ir sociālā uzņēmējdarbība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Rectangle 2"/>
          <p:cNvSpPr/>
          <p:nvPr/>
        </p:nvSpPr>
        <p:spPr>
          <a:xfrm>
            <a:off x="582480" y="1515960"/>
            <a:ext cx="8182080" cy="57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</a:rPr>
              <a:t>Sociālā uzņēmuma izveides mērķis ir vērsts uz sociālo vai sabiedrībai nozīmīgo problēmu risināšan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</a:rPr>
              <a:t>Sociālie uzņēmumi ir tirgus dalībnieki, kas ražo preces un sniedz pakalpojum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</a:rPr>
              <a:t>Sociālie uzņēmumi gūto peļņu investē sociālā mērķa sasniegšana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</a:rPr>
              <a:t>Tiek nodarbināti algoti darbiniek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</a:rPr>
              <a:t>sociālajos uzņēmumos, kuru </a:t>
            </a:r>
            <a:r>
              <a:rPr b="0" lang="lv-LV" sz="1600" spc="-1" strike="noStrike" u="sng">
                <a:solidFill>
                  <a:srgbClr val="404040"/>
                </a:solidFill>
                <a:uFillTx/>
                <a:latin typeface="Verdana"/>
              </a:rPr>
              <a:t>mērķis ir sabiedrībai svarīgas sociālas problēmas risinājums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</a:rPr>
              <a:t> un nodarbināti darbinieki, ar kuriem nodibinātas darba tiesiskās attiecīb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</a:rPr>
              <a:t>darba integrācijas uzņēmumi - sociālo uzņēmumu veids, kuru galvenais </a:t>
            </a:r>
            <a:r>
              <a:rPr b="0" lang="lv-LV" sz="1600" spc="-1" strike="noStrike" u="sng">
                <a:solidFill>
                  <a:srgbClr val="404040"/>
                </a:solidFill>
                <a:uFillTx/>
                <a:latin typeface="Verdana"/>
              </a:rPr>
              <a:t>mērķis ir riska grupu nodarbinātība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</a:rPr>
              <a:t>– integrācija darba tirgū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40404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2" name="Picture 8" descr=""/>
          <p:cNvPicPr/>
          <p:nvPr/>
        </p:nvPicPr>
        <p:blipFill>
          <a:blip r:embed="rId1"/>
          <a:stretch/>
        </p:blipFill>
        <p:spPr>
          <a:xfrm>
            <a:off x="7547040" y="111240"/>
            <a:ext cx="1452600" cy="10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433160" y="488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br>
              <a:rPr sz="2400"/>
            </a:br>
            <a:r>
              <a:rPr b="1" lang="lv-LV" sz="2200" spc="-1" strike="noStrike">
                <a:solidFill>
                  <a:srgbClr val="404040"/>
                </a:solidFill>
                <a:latin typeface="Verdana"/>
                <a:ea typeface="Verdana"/>
              </a:rPr>
              <a:t>Projekta mērķ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4" name="Content Placeholder 7" descr=""/>
          <p:cNvPicPr/>
          <p:nvPr/>
        </p:nvPicPr>
        <p:blipFill>
          <a:blip r:embed="rId1"/>
          <a:stretch/>
        </p:blipFill>
        <p:spPr>
          <a:xfrm>
            <a:off x="7151760" y="446040"/>
            <a:ext cx="1009440" cy="1063800"/>
          </a:xfrm>
          <a:prstGeom prst="rect">
            <a:avLst/>
          </a:prstGeom>
          <a:ln w="0">
            <a:noFill/>
          </a:ln>
        </p:spPr>
      </p:pic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12800" y="1712880"/>
            <a:ext cx="7920000" cy="440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rojekta mērķis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ir noteikt un pārbaudīt optimālus risinājumus sociālo uzņēmumu izveidei un attīstībai, tai skaitā darba integrācijas sociālo uzņēmumu atbalstam, lai palielinātu nodarbinātības iespēja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7600" indent="-285480" algn="just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</a:rPr>
              <a:t>nelabvēlīgākā situācijā esošiem bezdarbniekiem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7600" indent="-285480" algn="just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</a:rPr>
              <a:t>personām ar invaliditāti un personām ar garīga rakstura traucējumiem</a:t>
            </a:r>
            <a:r>
              <a:rPr b="0" lang="lv-LV" sz="1400" spc="-1" strike="noStrike">
                <a:solidFill>
                  <a:srgbClr val="404040"/>
                </a:solidFill>
                <a:latin typeface="Verdana"/>
              </a:rPr>
              <a:t>.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760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rojekta ietvaros tiks izveidota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ociālo uzņēmumu atbalsta sistēma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, kas ietver sociālo uzņēmumu atlases kritērijus un atbalsta instrumentus. Tāpat atbalsta sistēmas ietvaros izstrādāts pasākuma dalībnieku</a:t>
            </a:r>
            <a:r>
              <a:rPr b="0" i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reģistrs un uzsākts reģistrācijas process, kurā varēs iesaistīties komersanti, biedrības un nodibinājumi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rojekts ļaus noteikt efektīvākās atbalsta formas sociālo uzņēmumu attīstībai, lai tiktu veidoti jauni uzņēmumi, radītas darba vietas un ieviestas jaunas un efektīvas pieejas sociālu problēmu risināšanā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47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9D1E105-6BB6-44C0-982C-1E3712DB2B1E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471680" y="509400"/>
            <a:ext cx="651816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br>
              <a:rPr sz="2000"/>
            </a:br>
            <a:r>
              <a:rPr b="1" lang="lv-LV" sz="2200" spc="-1" strike="noStrike">
                <a:solidFill>
                  <a:srgbClr val="404040"/>
                </a:solidFill>
                <a:latin typeface="Verdana"/>
                <a:ea typeface="Verdana"/>
              </a:rPr>
              <a:t>Projekta aktivitāt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227160" y="1531440"/>
            <a:ext cx="8364240" cy="56278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abiedrības izpratnes veidošanas un izglītošanas pasākumi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ar jaunā projekta iniciatīvu, par sociālās uzņēmējdarbības pazīmēm/kritērijiem, par atbalsta sniegšanas iespējām sociālajai uzņēmējdarbībai un šādas uzņēmējdarbības  pieredzi, projekta mērķa grupu un sabiedrības informēšana saistībā ar projekta uzsākšan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ociālo uzņēmumu (</a:t>
            </a:r>
            <a:r>
              <a:rPr b="0" i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asākuma dalībnieku)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reģistra izstrāde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- projekta rezultātā izstrādāti un ieviesti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azīmes/kritēriji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ociālo uzņēmumu atpazīstamība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Uzsākta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asākuma dalībnieku atlase un reģistrācija (īsteno LM)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Uzsākta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atbalsta sniegšana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komersantiem, biedrībām, nodibinājumiem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(īsteno ALTU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 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Atbalsta sniegšana sociālās uzņēmējdarbības uzsācējiem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ociālās uzņēmējdarbības ideju konkursa organizēšana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(īsteno LM)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konsultāciju nodrošināšana sociālās uzņēmējdarbības uzsācēju biznesa plānu izstrādei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(īsteno L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2590560" y="6629400"/>
            <a:ext cx="1981080" cy="46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-720" bIns="-7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3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876920" y="6583320"/>
            <a:ext cx="3657600" cy="46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-720" bIns="-7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3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52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C47C1B5-8D0A-4570-AC1A-E2C400BC6E8B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3" name="Picture 6" descr="Attēlu rezultāti vaicājumam “photos for registration”"/>
          <p:cNvPicPr/>
          <p:nvPr/>
        </p:nvPicPr>
        <p:blipFill>
          <a:blip r:embed="rId1"/>
          <a:stretch/>
        </p:blipFill>
        <p:spPr>
          <a:xfrm flipH="1" rot="18840000">
            <a:off x="7716240" y="243360"/>
            <a:ext cx="1182600" cy="118260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8" descr=""/>
          <p:cNvPicPr/>
          <p:nvPr/>
        </p:nvPicPr>
        <p:blipFill>
          <a:blip r:embed="rId2"/>
          <a:stretch/>
        </p:blipFill>
        <p:spPr>
          <a:xfrm>
            <a:off x="7989840" y="4873680"/>
            <a:ext cx="102240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964880" y="550800"/>
            <a:ext cx="6751800" cy="10461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Pieteikšanās reģistrācijai </a:t>
            </a:r>
            <a:br>
              <a:rPr sz="2400"/>
            </a:br>
            <a:r>
              <a:rPr b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un a</a:t>
            </a:r>
            <a:r>
              <a:rPr b="1" lang="lv-LV" sz="2400" spc="-1" strike="noStrike">
                <a:solidFill>
                  <a:srgbClr val="404040"/>
                </a:solidFill>
                <a:latin typeface="Verdana"/>
                <a:ea typeface="ヒラギノ角ゴ Pro W3"/>
              </a:rPr>
              <a:t>tbalsta saņemšanas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58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1616F1C-58FC-4584-ACD9-928C5509244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Picture 4" descr=""/>
          <p:cNvPicPr/>
          <p:nvPr/>
        </p:nvPicPr>
        <p:blipFill>
          <a:blip r:embed="rId1"/>
          <a:stretch/>
        </p:blipFill>
        <p:spPr>
          <a:xfrm>
            <a:off x="1211400" y="2538360"/>
            <a:ext cx="1638000" cy="1636920"/>
          </a:xfrm>
          <a:prstGeom prst="rect">
            <a:avLst/>
          </a:prstGeom>
          <a:ln w="0">
            <a:noFill/>
          </a:ln>
        </p:spPr>
      </p:pic>
      <p:cxnSp>
        <p:nvCxnSpPr>
          <p:cNvPr id="560" name="Straight Arrow Connector 7"/>
          <p:cNvCxnSpPr/>
          <p:nvPr/>
        </p:nvCxnSpPr>
        <p:spPr>
          <a:xfrm flipV="1">
            <a:off x="3018240" y="2562840"/>
            <a:ext cx="930240" cy="34344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561" name="Picture 10" descr=""/>
          <p:cNvPicPr/>
          <p:nvPr/>
        </p:nvPicPr>
        <p:blipFill>
          <a:blip r:embed="rId2"/>
          <a:stretch/>
        </p:blipFill>
        <p:spPr>
          <a:xfrm>
            <a:off x="4199040" y="1919160"/>
            <a:ext cx="1141200" cy="1116000"/>
          </a:xfrm>
          <a:prstGeom prst="rect">
            <a:avLst/>
          </a:prstGeom>
          <a:ln w="0">
            <a:noFill/>
          </a:ln>
        </p:spPr>
      </p:pic>
      <p:cxnSp>
        <p:nvCxnSpPr>
          <p:cNvPr id="562" name="Straight Arrow Connector 9"/>
          <p:cNvCxnSpPr/>
          <p:nvPr/>
        </p:nvCxnSpPr>
        <p:spPr>
          <a:xfrm>
            <a:off x="4876560" y="3123720"/>
            <a:ext cx="1080" cy="96300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563" name="Picture 11" descr=""/>
          <p:cNvPicPr/>
          <p:nvPr/>
        </p:nvPicPr>
        <p:blipFill>
          <a:blip r:embed="rId3"/>
          <a:stretch/>
        </p:blipFill>
        <p:spPr>
          <a:xfrm>
            <a:off x="4199040" y="4149720"/>
            <a:ext cx="1101600" cy="1062000"/>
          </a:xfrm>
          <a:prstGeom prst="rect">
            <a:avLst/>
          </a:prstGeom>
          <a:ln w="0">
            <a:noFill/>
          </a:ln>
        </p:spPr>
      </p:pic>
      <p:cxnSp>
        <p:nvCxnSpPr>
          <p:cNvPr id="564" name="Straight Arrow Connector 11"/>
          <p:cNvCxnSpPr/>
          <p:nvPr/>
        </p:nvCxnSpPr>
        <p:spPr>
          <a:xfrm>
            <a:off x="3019320" y="4013280"/>
            <a:ext cx="953280" cy="35892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65" name="Content Placeholder 8"/>
          <p:cNvSpPr/>
          <p:nvPr/>
        </p:nvSpPr>
        <p:spPr>
          <a:xfrm>
            <a:off x="5673600" y="1797120"/>
            <a:ext cx="2805120" cy="13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1f497d"/>
                </a:solidFill>
                <a:latin typeface="Verdana"/>
              </a:rPr>
              <a:t>Labklājības ministrij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 u="sng">
                <a:solidFill>
                  <a:srgbClr val="17375e"/>
                </a:solidFill>
                <a:uFillTx/>
                <a:latin typeface="Verdana"/>
              </a:rPr>
              <a:t>Jāreģistrējas</a:t>
            </a:r>
            <a:r>
              <a:rPr b="0" lang="lv-LV" sz="1200" spc="-1" strike="noStrike">
                <a:solidFill>
                  <a:srgbClr val="17375e"/>
                </a:solidFill>
                <a:latin typeface="Verdana"/>
              </a:rPr>
              <a:t> LM pasākuma dalībnieku reģistr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Content Placeholder 8"/>
          <p:cNvSpPr/>
          <p:nvPr/>
        </p:nvSpPr>
        <p:spPr>
          <a:xfrm>
            <a:off x="835200" y="4305240"/>
            <a:ext cx="244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Verdana"/>
              </a:rPr>
              <a:t>Uzņēmu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1f497d"/>
                </a:solidFill>
                <a:latin typeface="Verdana"/>
              </a:rPr>
              <a:t>Komersants, biedrība, nodibināju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Box 3"/>
          <p:cNvSpPr/>
          <p:nvPr/>
        </p:nvSpPr>
        <p:spPr>
          <a:xfrm>
            <a:off x="5562720" y="4149720"/>
            <a:ext cx="272880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Century Gothic"/>
              </a:rPr>
              <a:t>ALT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 u="sng">
                <a:solidFill>
                  <a:srgbClr val="17375e"/>
                </a:solidFill>
                <a:uFillTx/>
                <a:latin typeface="Verdana"/>
              </a:rPr>
              <a:t>Jāiesniedz biznesa plāns</a:t>
            </a:r>
            <a:r>
              <a:rPr b="0" lang="lv-LV" sz="1200" spc="-1" strike="noStrike">
                <a:solidFill>
                  <a:srgbClr val="17375e"/>
                </a:solidFill>
                <a:latin typeface="Verdana"/>
              </a:rPr>
              <a:t> ALTUM (vērtē ALTUM) un sociālās ietekmes apraksts (vērtē LM), </a:t>
            </a:r>
            <a:r>
              <a:rPr b="0" lang="lv-LV" sz="1200" spc="-1" strike="noStrike" u="sng">
                <a:solidFill>
                  <a:srgbClr val="17375e"/>
                </a:solidFill>
                <a:uFillTx/>
                <a:latin typeface="Verdana"/>
              </a:rPr>
              <a:t>tiek slēgts līgums par</a:t>
            </a:r>
            <a:r>
              <a:rPr b="0" lang="lv-LV" sz="1200" spc="-1" strike="noStrike">
                <a:solidFill>
                  <a:srgbClr val="17375e"/>
                </a:solidFill>
                <a:latin typeface="Verdana"/>
              </a:rPr>
              <a:t> finanšu </a:t>
            </a:r>
            <a:r>
              <a:rPr b="0" lang="lv-LV" sz="1200" spc="-1" strike="noStrike" u="sng">
                <a:solidFill>
                  <a:srgbClr val="17375e"/>
                </a:solidFill>
                <a:uFillTx/>
                <a:latin typeface="Verdana"/>
              </a:rPr>
              <a:t>atbalsta saņemšan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050920" y="544320"/>
            <a:ext cx="6096240" cy="1035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br>
              <a:rPr sz="2200"/>
            </a:br>
            <a:r>
              <a:rPr b="1" lang="lv-LV" sz="2200" spc="-1" strike="noStrike">
                <a:solidFill>
                  <a:srgbClr val="404040"/>
                </a:solidFill>
                <a:latin typeface="Verdana"/>
                <a:ea typeface="Verdana"/>
              </a:rPr>
              <a:t>Turpmāk plānotās aktivitātes </a:t>
            </a:r>
            <a:br>
              <a:rPr sz="18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239760" y="1795320"/>
            <a:ext cx="6718320" cy="4510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spcAft>
                <a:spcPts val="1800"/>
              </a:spcAft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atlaban norisinās darbs pie Ministru kabineta noteikumu grozījumu izstrādes 2015.gada 11.augusta noteikumiem Nr.467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Darbības programmas "Izaugsme un nodarbinātība" 9.1.1. specifiskā atbalsta mērķa "Palielināt nelabvēlīgākā situācijā esošu bezdarbnieku iekļaušanos darba tirgū" 9.1.1.3.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asākuma "Atbalsts sociālajai uzņēmējdarbībai"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īstenošanas noteikumi» ietva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Reģistrācija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LM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pasākuma dalībnieku reģistrā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un atbalsta saņemšana ALTUM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uzsāksies </a:t>
            </a:r>
            <a:r>
              <a:rPr b="1" lang="lv-LV" sz="1600" spc="-1" strike="noStrike" u="sng">
                <a:solidFill>
                  <a:srgbClr val="404040"/>
                </a:solidFill>
                <a:uFillTx/>
                <a:latin typeface="Verdana"/>
                <a:ea typeface="Verdana"/>
              </a:rPr>
              <a:t>pēc MK noteikumu Nr.467 grozījumu stāšanās spēkā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72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833D87D-1AE4-4FBD-BCFC-8427549474AB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Picture 6" descr=""/>
          <p:cNvPicPr/>
          <p:nvPr/>
        </p:nvPicPr>
        <p:blipFill>
          <a:blip r:embed="rId1"/>
          <a:stretch/>
        </p:blipFill>
        <p:spPr>
          <a:xfrm>
            <a:off x="7186680" y="3838680"/>
            <a:ext cx="1728720" cy="172692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7" descr=""/>
          <p:cNvPicPr/>
          <p:nvPr/>
        </p:nvPicPr>
        <p:blipFill>
          <a:blip r:embed="rId2"/>
          <a:stretch/>
        </p:blipFill>
        <p:spPr>
          <a:xfrm>
            <a:off x="6878520" y="1365120"/>
            <a:ext cx="2265480" cy="16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928880" y="603000"/>
            <a:ext cx="7129440" cy="887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br>
              <a:rPr sz="2200"/>
            </a:br>
            <a:r>
              <a:rPr b="1" lang="lv-LV" sz="2200" spc="-1" strike="noStrike">
                <a:solidFill>
                  <a:srgbClr val="404040"/>
                </a:solidFill>
                <a:latin typeface="Verdana"/>
                <a:ea typeface="Verdana"/>
              </a:rPr>
              <a:t>Informācija biedrībām un nodibinājumi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293760" y="1638360"/>
            <a:ext cx="8393040" cy="4991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2016.gada 15.decembrī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LR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aeimā  pirmajā lasījumā  pieņemts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ociālās uzņēmējdarbības likums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, kas paredz, ka sociālā uzņēmuma statusu Latvijā varēs iegūt </a:t>
            </a:r>
            <a:r>
              <a:rPr b="0" lang="lv-LV" sz="1600" spc="-1" strike="noStrike" u="sng">
                <a:solidFill>
                  <a:srgbClr val="404040"/>
                </a:solidFill>
                <a:uFillTx/>
                <a:latin typeface="Verdana"/>
                <a:ea typeface="Verdana"/>
              </a:rPr>
              <a:t>komersants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(plānotā spēkā stāšanās 2018. gada 1. janvārī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spcAft>
                <a:spcPts val="1199"/>
              </a:spcAft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Likuma apstiprināšanas un spēkā stāšanās gadījumā,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biedrības un nodibinājumi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, kas projekta ietvaros 2017.gadā būs noslēguši līgumu ar «Altum» par finanšu atbalsta saņemšanu,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varēs turpināt darboties esošajā biedrības un nodibinājuma statusā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(līguma darbības laikā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spcAft>
                <a:spcPts val="1199"/>
              </a:spcAft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Atkārtotai pretendēšanai finanšu atbalsta saņemšanai projekta ietvaros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no 2018. gada 1. janvāra, biedrībai un nodibinājumam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būs jāpārreģistrējas par komersantu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,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askaņā ar jauno likum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spcAft>
                <a:spcPts val="1199"/>
              </a:spcAft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Biedrības un nodibinājumi tiks informēti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par iespējamām izmaiņām projekta ietvaros un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tālāko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rīcību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79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3520453-65A2-48FB-98F9-480CE62B485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/>
          </p:nvPr>
        </p:nvSpPr>
        <p:spPr>
          <a:xfrm>
            <a:off x="366480" y="3225600"/>
            <a:ext cx="8289720" cy="25081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lv-LV" sz="2800" spc="-1" strike="noStrike">
                <a:solidFill>
                  <a:srgbClr val="404040"/>
                </a:solidFill>
                <a:latin typeface="Verdana"/>
                <a:ea typeface="Verdana"/>
              </a:rPr>
              <a:t>Paldie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lv-LV" sz="1400" spc="-1" strike="noStrike">
                <a:solidFill>
                  <a:srgbClr val="000000"/>
                </a:solidFill>
                <a:latin typeface="Verdana"/>
                <a:ea typeface="Verdana"/>
              </a:rPr>
              <a:t>www.lm.gov.l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14:46:47Z</dcterms:created>
  <dc:creator>Dagnija</dc:creator>
  <dc:description/>
  <dc:language>en-US</dc:language>
  <cp:lastModifiedBy>Raitis Bukovskis</cp:lastModifiedBy>
  <cp:lastPrinted>2017-01-24T12:45:49Z</cp:lastPrinted>
  <dcterms:modified xsi:type="dcterms:W3CDTF">2017-02-13T09:51:00Z</dcterms:modified>
  <cp:revision>420</cp:revision>
  <dc:subject/>
  <dc:title>PowerPoint Presentation</dc:title>
</cp:coreProperties>
</file>